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120-A4DC-4415-B1F5-D6D640CD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203-F8D0-4986-9D41-8762B365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03F-5F87-4371-BFEA-33186A4D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55D-29C2-46F7-A532-E2363291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DF2-A26F-4728-A8F0-49886B97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0F4-1883-4F0D-AC58-361282FF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A53-6BDD-451F-BDCF-DF8FDD25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8F8-07B1-4492-ACEF-695172D7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C53-8727-43B7-A168-408DDDBC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AA9-5B32-456E-9418-97B8F123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8A0-984C-40DB-A16A-F53D8043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CB2-B56E-45B9-B84F-131753AC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0E15-91CB-41B6-A7A4-24529E761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943240" y="4724280"/>
            <a:ext cx="2590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_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49528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4876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0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etter does not belong in the -at fami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igh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960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0120" y="5257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37:28Z</dcterms:created>
  <dc:creator>nancy_mangum</dc:creator>
  <dc:description/>
  <dc:language>en-US</dc:language>
  <cp:lastModifiedBy>nancy_mangum</cp:lastModifiedBy>
  <dcterms:modified xsi:type="dcterms:W3CDTF">2008-11-12T17:01:15Z</dcterms:modified>
  <cp:revision>3</cp:revision>
  <dc:subject/>
  <dc:title>Slide 1</dc:title>
</cp:coreProperties>
</file>